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6F04-76D4-4BB1-966F-B53B389C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F33-E50E-4DAC-A9BA-C273A535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7952-F569-4A96-846D-4AE48434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56FD-3DB4-43C7-AC5D-E82EA9CD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0D38-5809-441A-B8F3-D8D573DF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A7E7-72BD-428B-ACC5-311AD189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532-F4C0-484E-B589-AC382CA6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AC51-38A1-48C9-885C-31C4C9F5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027B-BA5F-41C3-9DDF-B90B785A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2003-1AC0-4228-8484-C9D6701D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859B-B2B4-4AC5-9A30-B932F624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CAB1-52DF-458D-A445-4BCF9774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AACB-16A7-4706-969E-79C16A031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1:27:39Z</dcterms:created>
  <dc:creator>Cisco Systems, Inc.</dc:creator>
  <dc:description/>
  <dc:language>en-US</dc:language>
  <cp:lastModifiedBy>Cisco Systems, Inc.</cp:lastModifiedBy>
  <dcterms:modified xsi:type="dcterms:W3CDTF">2009-01-29T00:20:23Z</dcterms:modified>
  <cp:revision>4</cp:revision>
  <dc:subject/>
  <dc:title>Slide 1</dc:title>
</cp:coreProperties>
</file>