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02A-7252-466A-B7DE-D176CC77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F48-9005-439B-9F49-9155D464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7F3-B403-428A-8315-E78A12DF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8ECD-8CD0-4110-AB3F-83ED769B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69DE-4B7A-4B4C-8006-B9E80123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1C9-5229-4783-ACED-11BB9A83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B7FB-1F60-4FF7-9C43-195BF48F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D49-9AF2-4198-A6EC-26B05C1E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EDF-D81F-4F25-9C06-A53FDB7A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D97-6139-42B3-9E17-63BF9440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51FB-837D-4E3C-B82F-34D9BE8F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387-1BFD-4E75-9FD2-D89EE13B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3BA9-E197-4AB1-B6A4-3EA70D742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1:27:39Z</dcterms:created>
  <dc:creator>Cisco Systems, Inc.</dc:creator>
  <dc:description/>
  <dc:language>en-US</dc:language>
  <cp:lastModifiedBy>Cisco Systems, Inc.</cp:lastModifiedBy>
  <dcterms:modified xsi:type="dcterms:W3CDTF">2009-01-29T00:20:23Z</dcterms:modified>
  <cp:revision>4</cp:revision>
  <dc:subject/>
  <dc:title>Slide 1</dc:title>
</cp:coreProperties>
</file>