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3B32-8A18-40DA-84D1-9D13E6C12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0A8-12F7-4B32-8B71-8A60CC56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DA9D-11F2-434E-AD5E-06A2E0CE7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8D71-9DC9-43F3-B1ED-F0BBA5029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7DC-1B49-44AD-B87F-03BCFF48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EFA0-A5C4-4A7D-AC36-2820609D4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DE5B-C0BA-40AB-A4AD-0CFDBA542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A15F-AA59-4BDD-914B-1D312731A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EBE8-6245-49BB-9B92-2BDA16B4B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7A104-393F-4586-9C41-93F04DF5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9AD7-567C-461B-ADE8-0C201D1E4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3574-CC89-4782-8775-99691952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D3C6-6B75-4198-9DA2-7E2269122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39Z</dcterms:created>
  <dc:creator>Cisco Systems, Inc.</dc:creator>
  <dc:description/>
  <dc:language>en-US</dc:language>
  <cp:lastModifiedBy>Cisco Systems, Inc.</cp:lastModifiedBy>
  <dcterms:modified xsi:type="dcterms:W3CDTF">2009-01-29T00:20:23Z</dcterms:modified>
  <cp:revision>4</cp:revision>
  <dc:subject/>
  <dc:title>Slide 1</dc:title>
</cp:coreProperties>
</file>