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43C2-3856-4225-AD47-4076BBF28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958B-F22F-42D8-9D8C-885B5DBDC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16A8-F493-4110-86D5-0F0F76D8F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C0C6-3662-44D3-81A8-C9AF4F1A4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1662-9628-4436-80AB-3F994B6C1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5764-7A1D-4942-810B-E9F01EAB4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0995-BA73-433E-9150-99B01DFBF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361E-37EA-43CE-926B-868D5D0E6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B2AA-5E8C-4890-A087-E04A126D0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EFD3-134E-459D-BA79-1916C4B9B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CE95-47F1-46CB-A4E0-CE4D312C4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CA14-63A6-49B8-8304-3C4CE2BCF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5906F-66DD-4D4F-A72F-7616407F33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8T01:27:39Z</dcterms:created>
  <dc:creator>Cisco Systems, Inc.</dc:creator>
  <dc:description/>
  <dc:language>en-US</dc:language>
  <cp:lastModifiedBy>Cisco Systems, Inc.</cp:lastModifiedBy>
  <dcterms:modified xsi:type="dcterms:W3CDTF">2009-01-29T00:20:23Z</dcterms:modified>
  <cp:revision>4</cp:revision>
  <dc:subject/>
  <dc:title>Slide 1</dc:title>
</cp:coreProperties>
</file>