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D86-EDDD-4E92-9752-16BE5736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F83-8865-47CE-B97F-B6612DBD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F8D-841F-4460-954B-E8522BFD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C7C-6AC1-4AAF-BA20-1ECB5208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4D4-9EB0-408F-8D9D-614E530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759-D402-4151-B41A-0AEACA22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6A1-9BA2-471D-A810-967EABB0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170-7647-4685-BAA5-CB2AE9C8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3BD-041E-4695-83F5-7890531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E63-2E7D-4F33-A610-74357A74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4E7-B41D-4C3B-BAFB-7D3F25B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9AD-322E-4DEA-858C-3C9368A3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68F3-5E98-4935-A3D5-96631FB5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1:27:39Z</dcterms:created>
  <dc:creator>Cisco Systems, Inc.</dc:creator>
  <dc:description/>
  <dc:language>en-US</dc:language>
  <cp:lastModifiedBy>Cisco Systems, Inc.</cp:lastModifiedBy>
  <dcterms:modified xsi:type="dcterms:W3CDTF">2009-01-29T00:20:23Z</dcterms:modified>
  <cp:revision>4</cp:revision>
  <dc:subject/>
  <dc:title>Slide 1</dc:title>
</cp:coreProperties>
</file>